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94590"/>
        <c:axId val="61637921"/>
      </c:barChart>
      <c:catAx>
        <c:axId val="51294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37921"/>
        <c:crosses val="autoZero"/>
        <c:auto val="1"/>
        <c:lblAlgn val="ctr"/>
        <c:lblOffset val="100"/>
        <c:noMultiLvlLbl val="0"/>
      </c:catAx>
      <c:valAx>
        <c:axId val="61637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4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646-6B23-4039-840C-218745A7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A22-978B-4299-8ACF-F772E2B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FB6-85FC-40FE-A258-D4470E2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763-3C43-441D-A071-57295AD7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4A2-B245-4420-8C36-16D30E6F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AE7-E79F-4DB7-BA4B-D012204B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C46-9AD1-4ADF-B392-AFC14D7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DAD-008D-4134-85BF-B6CAD458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8F0-0A9B-44C3-9938-1C13C47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EB6-F6FA-4BD9-BC46-7378F0D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29D-DF34-41A4-8A5B-70C8D0C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3B0-8859-4AE9-9A97-AB1580E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C7F1-BAE4-4E66-B2C9-70F928B36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