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99291"/>
        <c:axId val="81738827"/>
      </c:barChart>
      <c:catAx>
        <c:axId val="3599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38827"/>
        <c:crosses val="autoZero"/>
        <c:auto val="1"/>
        <c:lblAlgn val="ctr"/>
        <c:lblOffset val="100"/>
        <c:noMultiLvlLbl val="0"/>
      </c:catAx>
      <c:valAx>
        <c:axId val="817388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9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6CFB-3C01-447D-9F19-B9AA8795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B9CA-48E3-4490-8B4E-76918592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6275-88ED-4398-8995-49016870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A9C5-BF20-4DF7-A400-7CC19DFC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6DAB-46ED-4BCA-AA9F-2A5952A3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DB94-ADB7-4A7C-9958-086141AB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1673-F60D-4AD8-BA5B-89459E2F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EE6F-0C6D-4CCB-A4A4-61700F3A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324-D263-451E-A992-2560FFBA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8DA0-00CF-4FFD-8235-C8DA44BA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0F3D-1FCB-4C96-AFCE-D85E9A0C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4742-6B17-40C7-8D5E-0E9AB481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B6DD8-366F-454A-B5E6-36A4D821D2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